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338-53CA-4DAD-A14D-E3177327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8F9-BB8B-49E0-B977-2D5312A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24C-B5DF-49EE-9931-F466B1E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B10-2729-4090-9037-FF58148E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A1A-B9EB-4FE6-A9AE-ADF4DCA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497-AFB1-456B-98AF-F820950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7E4-5543-4FF4-AB61-A32661C4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652-85E9-4F58-A889-C14A712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B15-90B0-419A-AEEC-D45EDD50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A49-CFCF-4EF5-9EFB-C870F8A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CCA-CA4F-4807-B04A-9F26325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360-0115-4618-8807-EC70391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0D3-AC66-40AB-8E04-C282CDE0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ample Size f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1080" y="77616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about Sample Size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0600" y="12193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5480" y="11430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40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6560" y="9144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22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1:18:47Z</dcterms:modified>
  <cp:revision>42</cp:revision>
  <dc:subject/>
  <dc:title>PowerPoint Presentation</dc:title>
</cp:coreProperties>
</file>